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4BC-9E8F-4432-A8FA-E4A6C77C2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18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18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601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hold 1999601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usehold 19993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1981080" y="2895480"/>
            <a:ext cx="7010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1972" t="13026" r="19435" b="18616"/>
          <a:stretch/>
        </p:blipFill>
        <p:spPr>
          <a:xfrm>
            <a:off x="0" y="0"/>
            <a:ext cx="3919680" cy="6858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ildren and Li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rangements in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rrent Popul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rve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6232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ilip N. Co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iversity of California, Ir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in Multigenerational Househol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600200" y="32767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in Multigenerational Household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fare receiving families (previous yea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gle mothers with other adults pres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gle mothers with other adults present with employment/population ratio chan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gle mothers with other adults present: OLS regression for trendlin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676520"/>
            <a:ext cx="670572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5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9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002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.001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007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/Pop Ch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.17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.010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.252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. R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4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2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r" pos="2747880"/>
                <a:tab algn="r" pos="4110120"/>
                <a:tab algn="r" pos="54831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.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209680"/>
            <a:ext cx="5562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962520"/>
            <a:ext cx="5562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648320"/>
            <a:ext cx="5562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Mo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Mo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600200" y="46483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Fa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Living with Father On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-year longitudinal matching with complex househo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generational household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mothers living with other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mother and father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5360" y="1905120"/>
            <a:ext cx="2297520" cy="13726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phie,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16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4080" y="609480"/>
            <a:ext cx="203832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essica, 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ddle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20960" y="3733920"/>
            <a:ext cx="229752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ggie,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ver m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15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1080" y="5562720"/>
            <a:ext cx="65772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y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y,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1" idx="0"/>
          </p:cNvCxnSpPr>
          <p:nvPr/>
        </p:nvCxnSpPr>
        <p:spPr>
          <a:xfrm>
            <a:off x="4863960" y="1561680"/>
            <a:ext cx="21600" cy="3150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2"/>
            <a:endCxn id="53" idx="0"/>
          </p:cNvCxnSpPr>
          <p:nvPr/>
        </p:nvCxnSpPr>
        <p:spPr>
          <a:xfrm flipH="1">
            <a:off x="4870080" y="3358800"/>
            <a:ext cx="15120" cy="3754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2"/>
            <a:endCxn id="54" idx="0"/>
          </p:cNvCxnSpPr>
          <p:nvPr/>
        </p:nvCxnSpPr>
        <p:spPr>
          <a:xfrm flipH="1">
            <a:off x="4830480" y="5111280"/>
            <a:ext cx="40320" cy="451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33520" y="6070680"/>
            <a:ext cx="30855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Black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71000" y="1905120"/>
            <a:ext cx="2229120" cy="13726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phie,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ul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9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55160" y="3733920"/>
            <a:ext cx="222912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ggie,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ver m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,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ull-year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rsing 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8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1080" y="5562720"/>
            <a:ext cx="6577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y,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0" idx="2"/>
            <a:endCxn id="61" idx="0"/>
          </p:cNvCxnSpPr>
          <p:nvPr/>
        </p:nvCxnSpPr>
        <p:spPr>
          <a:xfrm flipH="1">
            <a:off x="4870080" y="3358800"/>
            <a:ext cx="16560" cy="3754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1" idx="2"/>
            <a:endCxn id="62" idx="0"/>
          </p:cNvCxnSpPr>
          <p:nvPr/>
        </p:nvCxnSpPr>
        <p:spPr>
          <a:xfrm flipH="1">
            <a:off x="4830480" y="5111280"/>
            <a:ext cx="40320" cy="451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33520" y="6070680"/>
            <a:ext cx="30855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Black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791320" y="6400800"/>
            <a:ext cx="31143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White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057400"/>
            <a:ext cx="297036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b,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wing mach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0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80320" y="2057400"/>
            <a:ext cx="218484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y,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tion insp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0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24680" y="533520"/>
            <a:ext cx="186336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lvia,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46880" y="3886200"/>
            <a:ext cx="218484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retchen,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’s 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fice 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3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8120" y="3886200"/>
            <a:ext cx="225324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ich,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m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wing machin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3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5791320"/>
            <a:ext cx="6775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irl,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0" idx="2"/>
            <a:endCxn id="69" idx="0"/>
          </p:cNvCxnSpPr>
          <p:nvPr/>
        </p:nvCxnSpPr>
        <p:spPr>
          <a:xfrm>
            <a:off x="6156360" y="1486080"/>
            <a:ext cx="18000" cy="5529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4572000" y="25146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8" idx="2"/>
            <a:endCxn id="71" idx="0"/>
          </p:cNvCxnSpPr>
          <p:nvPr/>
        </p:nvCxnSpPr>
        <p:spPr>
          <a:xfrm>
            <a:off x="3009960" y="3269880"/>
            <a:ext cx="1830960" cy="6166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3276720" y="44197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1" idx="2"/>
            <a:endCxn id="73" idx="0"/>
          </p:cNvCxnSpPr>
          <p:nvPr/>
        </p:nvCxnSpPr>
        <p:spPr>
          <a:xfrm>
            <a:off x="4839840" y="5051160"/>
            <a:ext cx="1080" cy="740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791320" y="6400800"/>
            <a:ext cx="31143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White, non-La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3640" y="2057400"/>
            <a:ext cx="316008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b, 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part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eparating/clarifying/filtering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2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80320" y="2057400"/>
            <a:ext cx="2184840" cy="1159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y,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duction insp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2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680" y="533520"/>
            <a:ext cx="186336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lvia, 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d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6880" y="3886200"/>
            <a:ext cx="218484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retchen,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’s deg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full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fice 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5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03760" y="3886200"/>
            <a:ext cx="21852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ich,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m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ull-time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ul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year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rison 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27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3" idx="2"/>
            <a:endCxn id="82" idx="0"/>
          </p:cNvCxnSpPr>
          <p:nvPr/>
        </p:nvCxnSpPr>
        <p:spPr>
          <a:xfrm>
            <a:off x="6156360" y="1486080"/>
            <a:ext cx="18000" cy="5529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572000" y="25146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1" idx="2"/>
            <a:endCxn id="84" idx="0"/>
          </p:cNvCxnSpPr>
          <p:nvPr/>
        </p:nvCxnSpPr>
        <p:spPr>
          <a:xfrm>
            <a:off x="2984040" y="3269880"/>
            <a:ext cx="1856520" cy="6166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276720" y="44197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5791320"/>
            <a:ext cx="6775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irl,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91" idx="0"/>
          </p:cNvCxnSpPr>
          <p:nvPr/>
        </p:nvCxnSpPr>
        <p:spPr>
          <a:xfrm>
            <a:off x="4839840" y="5051160"/>
            <a:ext cx="1080" cy="740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63560" y="6400800"/>
            <a:ext cx="47178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Latino except Angela’s children (Wh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31480"/>
            <a:ext cx="22860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ia, 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pa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792800"/>
            <a:ext cx="1981440" cy="15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gela, 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v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tcher / meat-c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19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033800"/>
            <a:ext cx="160020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ta,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eresa,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21680"/>
            <a:ext cx="266688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loria,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relative of Angel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ddle schoo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and packer / pack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21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077720"/>
            <a:ext cx="190512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ke,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th grade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vate 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9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077720"/>
            <a:ext cx="243828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na,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ttends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ai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$3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5794920"/>
            <a:ext cx="9907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harlie,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4" idx="2"/>
            <a:endCxn id="95" idx="0"/>
          </p:cNvCxnSpPr>
          <p:nvPr/>
        </p:nvCxnSpPr>
        <p:spPr>
          <a:xfrm>
            <a:off x="4571640" y="1393920"/>
            <a:ext cx="1080" cy="3643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200400" y="466884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8" idx="2"/>
            <a:endCxn id="100" idx="0"/>
          </p:cNvCxnSpPr>
          <p:nvPr/>
        </p:nvCxnSpPr>
        <p:spPr>
          <a:xfrm>
            <a:off x="4533480" y="5239800"/>
            <a:ext cx="1080" cy="551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5" idx="3"/>
            <a:endCxn id="97" idx="1"/>
          </p:cNvCxnSpPr>
          <p:nvPr/>
        </p:nvCxnSpPr>
        <p:spPr>
          <a:xfrm>
            <a:off x="5581800" y="2585880"/>
            <a:ext cx="667440" cy="23040"/>
          </a:xfrm>
          <a:prstGeom prst="straightConnector1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</p:cxnSp>
      <p:cxnSp>
        <p:nvCxnSpPr>
          <p:cNvPr id="105" name=""/>
          <p:cNvCxnSpPr>
            <a:stCxn id="95" idx="2"/>
            <a:endCxn id="96" idx="0"/>
          </p:cNvCxnSpPr>
          <p:nvPr/>
        </p:nvCxnSpPr>
        <p:spPr>
          <a:xfrm flipH="1" rot="16200000">
            <a:off x="5310720" y="2674440"/>
            <a:ext cx="616680" cy="2096280"/>
          </a:xfrm>
          <a:prstGeom prst="bentConnector3">
            <a:avLst>
              <a:gd name="adj1" fmla="val 48422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98" idx="0"/>
          </p:cNvCxnSpPr>
          <p:nvPr/>
        </p:nvCxnSpPr>
        <p:spPr>
          <a:xfrm flipH="1">
            <a:off x="4533480" y="3582720"/>
            <a:ext cx="38880" cy="492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29000" y="231480"/>
            <a:ext cx="2286000" cy="1159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ia, 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pa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non-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 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792800"/>
            <a:ext cx="1981440" cy="15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gela, 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v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eign born, citi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ary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tcher / meat-c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8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033800"/>
            <a:ext cx="1600200" cy="7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ta,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eresa,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971160"/>
            <a:ext cx="1905120" cy="13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ke,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th grade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vate 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11,0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ever marri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8" idx="2"/>
            <a:endCxn id="109" idx="0"/>
          </p:cNvCxnSpPr>
          <p:nvPr/>
        </p:nvCxnSpPr>
        <p:spPr>
          <a:xfrm>
            <a:off x="4571640" y="1393920"/>
            <a:ext cx="1080" cy="3643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2"/>
            <a:endCxn id="110" idx="0"/>
          </p:cNvCxnSpPr>
          <p:nvPr/>
        </p:nvCxnSpPr>
        <p:spPr>
          <a:xfrm flipH="1" rot="16200000">
            <a:off x="5310720" y="2674440"/>
            <a:ext cx="616680" cy="2096280"/>
          </a:xfrm>
          <a:prstGeom prst="bentConnector3">
            <a:avLst>
              <a:gd name="adj1" fmla="val 48422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111" idx="0"/>
          </p:cNvCxnSpPr>
          <p:nvPr/>
        </p:nvCxnSpPr>
        <p:spPr>
          <a:xfrm flipH="1">
            <a:off x="4533480" y="3476160"/>
            <a:ext cx="38880" cy="492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143000" y="4079520"/>
            <a:ext cx="1600200" cy="94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ngela,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U.S. b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od p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$400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H="1" flipV="1" rot="5400000">
            <a:off x="3032640" y="2537280"/>
            <a:ext cx="450000" cy="2629440"/>
          </a:xfrm>
          <a:prstGeom prst="bentConnector2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533160" y="358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3560" y="6400800"/>
            <a:ext cx="47178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All members Latino except Angela’s children (Wh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ildren in Multigenerational Househol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557360"/>
          <a:ext cx="777528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57360"/>
                    <a:ext cx="777528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23:18:56Z</dcterms:created>
  <dc:creator>sscsnt</dc:creator>
  <dc:description/>
  <dc:language>en-US</dc:language>
  <cp:lastModifiedBy>Hoda Makar</cp:lastModifiedBy>
  <dcterms:modified xsi:type="dcterms:W3CDTF">2003-11-09T18:43:06Z</dcterms:modified>
  <cp:revision>21</cp:revision>
  <dc:subject/>
  <dc:title>Children’s Living Arrangements in the Current Population Survey</dc:title>
</cp:coreProperties>
</file>